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72867"/>
        <c:axId val="8189660"/>
      </c:barChart>
      <c:catAx>
        <c:axId val="44772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9660"/>
        <c:crosses val="autoZero"/>
        <c:auto val="1"/>
        <c:lblAlgn val="ctr"/>
        <c:lblOffset val="100"/>
        <c:noMultiLvlLbl val="0"/>
      </c:catAx>
      <c:valAx>
        <c:axId val="8189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72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220-FE5C-445C-905C-0FBD4518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265-4281-4187-85AD-7AB4249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16A-0502-47A0-BE93-043563F5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D53-0FAE-4117-94F7-17FABB95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6CF-DFAB-4459-9DD0-C0C8D967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477-BB4E-48E3-9DAC-6D7C7CA8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5C9-3DA6-4D31-98C3-4839E86C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374-F842-4A5C-95B9-A1B2F79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B64-6244-43A8-B698-CF111B7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2ED-8202-4D06-B44F-E0979AA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102-2D71-4DF0-B634-9CE99B6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EB6-1237-4895-B16D-79A202D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68BB7-48C9-4F46-9634-DF261969C2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