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2194"/>
        <c:axId val="92590701"/>
      </c:barChart>
      <c:catAx>
        <c:axId val="66432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0701"/>
        <c:crosses val="autoZero"/>
        <c:auto val="1"/>
        <c:lblAlgn val="ctr"/>
        <c:lblOffset val="100"/>
        <c:noMultiLvlLbl val="0"/>
      </c:catAx>
      <c:valAx>
        <c:axId val="92590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2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EEE-10C9-4DDD-8169-60255457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E9C-0611-4285-B8DA-F1BE3371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296-90A4-44CD-9E1F-C8ABBC5D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904-1E2F-47FF-810E-0587CA00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157-7463-487C-AF8D-1E7228D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D47-E84E-428A-87F1-69F889E6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B61-5BD1-428E-993B-D1655B21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8A4-B173-4E8C-81A5-FAC6FF6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61D-3892-4AB4-9D67-4CB7DCE5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E7-0732-4DD2-B7F9-EA7728E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16C-42D9-4802-AE34-12EB09C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986-2326-44AF-B75B-01092A37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2B383-C3A2-466E-82CA-229AF742A5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